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2CA-4978-4305-9370-2EBF74C6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2A6-D0B2-4A5F-BEA8-D104167A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E5D-325E-4993-8D14-04FD8767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EE1-18FD-46D0-80C3-34F8E9F6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A18-0D3C-4898-8E7D-61409758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62E-F262-4AE9-8B89-939C436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71A-F450-4886-B36C-620C4A94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DAA-6026-4183-BC66-2135378B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63C-C9F2-4A42-B5D3-62204710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60F-3A4F-4466-8CC4-DF9B29D8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EB0-E73D-4822-AF43-71E95EEA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7DE-B7DB-478A-9C44-F4E388D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F2DE-07F4-41FA-98D4-36B6F80A7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13F8-5644-46E1-AAA9-A4C542011A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udent-Led Con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Strengths I brought to Galil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A pho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ttitude &amp;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 will be a different learner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I will face going back to mainstream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alileo – Initial thou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I learn bes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I work in a tea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Highl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fbfbf"/>
                </a:solidFill>
                <a:latin typeface="Calibri"/>
              </a:rPr>
              <a:t>(story/pho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fbfbf"/>
                </a:solidFill>
                <a:latin typeface="Calibri"/>
              </a:rPr>
              <a:t>(story/pho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goals (1 - skil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2 - knowled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3 – personal qu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4 – personal qu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chievement Go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Achievement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eek 5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eek 10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Placeholder 3"/>
          <p:cNvSpPr/>
          <p:nvPr/>
        </p:nvSpPr>
        <p:spPr>
          <a:xfrm>
            <a:off x="4788000" y="1401840"/>
            <a:ext cx="40399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Attitude &amp; Effort 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k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k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2:55:12Z</dcterms:created>
  <dc:creator>mbobeff</dc:creator>
  <dc:description/>
  <dc:language>en-US</dc:language>
  <cp:lastModifiedBy>Christopher MCCAW</cp:lastModifiedBy>
  <dcterms:modified xsi:type="dcterms:W3CDTF">2012-09-14T00:21:03Z</dcterms:modified>
  <cp:revision>11</cp:revision>
  <dc:subject/>
  <dc:title>Name</dc:title>
</cp:coreProperties>
</file>